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4AF3E-538B-47A7-ADC1-BD8B91EBDF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0AE09-138C-4632-B189-2DAAC2C37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678BF-7D67-4BD7-8DA3-C8888BAA4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8AF5D-6F18-4A75-ABC5-845B139E0D3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FC829-A353-45A7-8556-A10321F0A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E346E-C179-4F44-9F91-B1E9C12AD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627F0-0C0C-4550-9386-92F8BA0A8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CD5E3-818F-4CFA-8FA6-EC5AA27F3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9F41B-F118-406B-9D87-E51A0A359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2A1C5-26CA-4913-ABAA-1398E2C0B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4D8C9-EAC0-4B12-B18F-D5D95D2B7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61EB2-3E03-4FEB-A149-2170E9363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3BFE15AF-BF7B-4A02-A68A-1FD13684ADFD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191120" y="5029200"/>
            <a:ext cx="451944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NDC and TSI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SIG to protect AXF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riving a secr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nssec-keygen -a ... -b ... -n... nam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figuring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, same syntax as for rnd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key { algorithm ...; secret ...;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ing use of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erver x { key ...; 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ere 'x' is an IP number of the other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C6E31-4457-4512-8D48-91F6D33F490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ation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Prim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46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35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master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3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Second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35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46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slave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masters {10.33.40.46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27280" y="5907240"/>
            <a:ext cx="72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gain, the secret looks okay, but is purposely invali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95466-77C2-49B6-8C04-D70AF4EE89E5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IME!!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is time sensitive - to stop repla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ssage protection expires in 5 minu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ke sure time is synchroniz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testing, set the 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operations, (secure) NTP is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CAE35-C2C0-4510-8155-F4C0632446E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uses of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was designed for other purpo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tecting sensitive stub resol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s has proven hard to accompli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ynamic Upd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iscussed later, securing this relies on TS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675D9-5CA9-4532-BA3B-1D474B28BDD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ternatives to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G (0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blic key approach to same servi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potential, but not much experience y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ans to start with SIG(0) and wind up with TS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so, Microsoft uses this with Kerberos via GSSAP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FDDF3-3185-40E6-BEF6-5E5D83BF20C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RNDC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mote Name Daemon Controll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and-line control of named daem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ually on same host, can be across ho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D973E-EA32-4F59-9482-26BB35FA650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ing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"rndc-conf" generates lines to be added to two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ndc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6B63D-6AB7-498B-A047-5A1033132EF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nabling RNDC in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key defin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 rndc_key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secret "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Y7/uIiR0fKGvi5z50+Q==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"; algorithm hmac-md5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arning: example secret looks good but is invalid (don't copy it!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trols statem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controls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inet 127.0.0.1 port 953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allow { 127.0.0.1; }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s { "rndc-key"; 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7E731-3553-4089-8E3A-DDF8110F461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an rndc.conf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etc/rndc.conf specifies defaults for rnd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.g.,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key "rndc-key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algorithm hmac-md5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secret "dY7/uIiR0fKGvi5z50+Q==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key "rndc-key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server 127.0.0.1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port 953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B7F64-B6FD-4F80-8D44-EFC1C07833B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can be done with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op - kills serv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us - prints some inform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s - generates stat file (named.stat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reload - refresh zone(s), w/varia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trace - increases debug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flush - removes cached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commands in the AR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DF2BF-B409-46C2-B58C-F701659182A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TSI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mechanism for protecting a message from a resolver to server and vice vers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keyed-hash is applied (like a digital signature) so recipient can verify messa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a shared secret - both sender and reciever are configured with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A142A-A118-4594-A4C4-61E68591F2E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SIG and Message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"/>
          <p:cNvSpPr/>
          <p:nvPr/>
        </p:nvSpPr>
        <p:spPr>
          <a:xfrm>
            <a:off x="2895480" y="18288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Hea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2666880"/>
            <a:ext cx="2438640" cy="83844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Questi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350532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95480" y="43434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uthorit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5181480"/>
            <a:ext cx="2438640" cy="91440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ditional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&amp; TSIG dat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1752480"/>
            <a:ext cx="3353040" cy="3886200"/>
          </a:xfrm>
          <a:prstGeom prst="rect">
            <a:avLst/>
          </a:prstGeom>
          <a:noFill/>
          <a:ln w="38160">
            <a:solidFill>
              <a:srgbClr val="01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97480" y="2743200"/>
            <a:ext cx="15494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’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iginal Message Forma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B24A7-CFD6-4644-A68C-2661FAC22390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Secre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name is given to the key, the name is what is transmitted in the message (so receiver knows what key the sender used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secret va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value determined during key gen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sually seen in Base64 encod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'Looks' like the rndc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 uses same interface for TSIG and RNDC key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422B6-48AB-4BEA-8D69-2DBA845DB17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1T16:17:50Z</dcterms:created>
  <dc:creator>edward lewis</dc:creator>
  <dc:description/>
  <dc:language>en-US</dc:language>
  <cp:lastModifiedBy>Marmaduke Wildebeeste</cp:lastModifiedBy>
  <cp:lastPrinted>2003-02-20T08:17:40Z</cp:lastPrinted>
  <dcterms:modified xsi:type="dcterms:W3CDTF">2003-06-01T20:50:02Z</dcterms:modified>
  <cp:revision>25</cp:revision>
  <dc:subject/>
  <dc:title>PowerPoint Presentation  -  RNDC and TSIG</dc:title>
</cp:coreProperties>
</file>