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ED0B590-7531-417E-BFE9-37E92219F40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17D5083-433F-4CB7-AD3A-438F3D33CC2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C90A3B6-3887-4F3F-8C3D-B2D950FF6C8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863F659-AEC0-41FE-B576-B2D003B8CCA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389B4DC-DCD0-49F0-AFF8-C77ACA1089F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A4B9E2-D034-41B5-B984-AED06E20211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9F277C3-545E-422C-9AD6-7F5305F50C9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E0C8325-44EB-4BB0-9BD7-5B29EB64267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9460E48-782D-4C4C-82FE-4CF1D8E7742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6E6DDD9-A64A-44D1-A874-352EAE957E6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6F2E10F-7F43-43F2-86FE-D64843DC44C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51FF9FF-5D32-423F-BF7B-BDDC1F7CB24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96F87C7-FE2B-47FB-8521-740964D753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836A231-47E2-4CF3-B142-98749B2BC31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FF875A5-CBC5-4FB4-9678-AF5B77C54F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AC24470-1EDC-4390-9F83-CE9DCC8C13C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21EAB5D-12B8-41E6-9606-7B0472FECD3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A46AFBE-659D-4AD1-BCB2-FB1EB2C55C9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1F03C07-A278-44B0-A782-3B492CE5780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B18B56B-532D-47B3-9D8B-26F14D86683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79DF1EC-57F0-40FE-9C48-55A3B820B5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6839AC3-0049-4C81-A84C-67CA653AAF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C327AC2-BA53-4C78-AF77-3B4B4CBE3D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347FE2-A87E-4F57-BC42-F75668EE47B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FADFEA-1AC4-4844-947C-DEC487C93BF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622EB76-2CC0-4577-992D-E89189090CE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FF06DD6-5D0D-4AA9-B950-E8A942AC40D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704BD523-A404-4E05-A63B-CAF2EE70606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24AE8C3-7E5A-45F6-9263-F3F3B9B3365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365244-B777-439F-83E3-F939781615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9355C42-0FD2-465E-AEA7-6AF8CD05D1D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3726D5-A45C-43B7-ACE9-E0948BAC5F5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80DF67-749E-4A19-9801-F3627272CD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31D98CB-1880-491C-8A26-16D9A61AE3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33492DE-186F-442E-A23C-C191B872D1A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31EE24E-3F03-4B4C-88F8-9F538004B6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154EC-31B9-4019-998C-2105A007A3E2}"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D8C13-C898-4179-B083-AEE4C1F9CFE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72B8BC-0FA7-4C42-8845-65B3069D208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9B42DF-F6EF-444F-8C76-593835BCB1FE}"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B45071-DA5F-4878-A87D-2B1B3AA09ECA}"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CA7EAE-1759-4E0B-8033-645B783CBA7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87A410-D4B7-4E2D-8A16-643D733A55E7}"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F2CE7A4-3B0F-4042-89A8-8A35E7B8ADB5}"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7A0157-88C7-4821-AD16-0C5C81B1FDD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6AC86B-9C93-4768-88DC-9D549E2C28A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0A639C5-E274-4A7C-9E7F-69E42241AFA8}"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62E786-F5C1-4D85-BDF0-98836116A351}"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E651844-5655-4EDD-ACB3-1EC53C931EF1}"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A05F97AC-F722-4CFB-822F-08CEAFC2440F}"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8922620-1A11-4CD6-AB0F-4A87294DB2B9}"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FFDEC24-A5C6-4B7D-AD7E-A20C30E160C7}"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FB0F6FE-B458-47D1-AABE-A2A9B115220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E47BBFE-3F23-47F4-9B17-EC72A3DE6E1C}"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212A5AC-8A07-4C8F-872A-A4ED7554850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B256D57-E25D-4972-BF42-991D9F7D327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644526B-D92E-49B7-AA4C-28DB989AB406}"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19AD2A-B4F4-407F-8036-A1BBEB2CAF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64C6009-F281-4A68-8E87-588613E69C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090937E-9781-4E25-A74E-01CAA9CA8B4F}"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C6CED4-3212-4997-8C1A-0E1AA20BE3D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ACDF4A-9EAF-484A-8D8B-CFC95F4FA39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75BE039-5024-43E4-AB01-2D3A109D17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F87C15-CEEE-4DDA-9186-48E3FE518A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AB2E15-5764-4CE0-A97B-C3D8CA35F511}"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F9CA7C-C4D0-42BA-83BF-9DBD3BE6305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8039C04-9948-4351-90AB-3BEE1A01A2C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41907B7-34FD-4822-AE89-DFC5ECA5F01F}"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EAF387-D3C0-4D23-A297-41E296F3D9A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3E9666B-4124-4546-8CD3-077F58B865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57457E3-0B3C-4F1B-B8DE-FFCF8B2071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EA3674-173A-4C29-822D-52745C46485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A4E28E-3F93-4FB2-983A-6D6BC7675D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3D70228-23A1-4425-88AF-A2AEF1E6D7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36DC0E-E7BA-4A3D-962D-BFE3EF0E342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FE119CE-A9DE-46E2-9882-123E53F68263}"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078901E-5DD2-44B3-A157-0DCCBA218555}"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B1EC3B4-A91E-4F65-ABA9-89ADC1445E4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9D8F99-91F6-4DBD-A14F-704C131F442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602D64-229E-4826-A62C-CF6347DFB7F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805F26-724E-4DF2-8EEA-3F6B54785FA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5888139-67EF-4659-91F4-5015A67F9CA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B0BD1FB-7CAE-4445-A500-FA56ADCD276E}"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1571DE-7A8E-4B1B-BD3D-662D14754F9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759499-A6A3-46B4-987C-E9E49AD7D31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AE5B6D-2CDB-4847-A101-29067CBED821}"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2E6B452-F5D8-4D68-A4DE-5142522DB1D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FC3F9B-13AB-48A3-B7C1-F4E0B86AC12E}"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628E232-0831-48DD-843C-DB293EBEE7C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2717639-2A67-4ED8-AD70-9E8DE1DB438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56FB092-5E73-447F-B031-A89918B9699E}"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1ED412-DACF-4935-8C5C-10D80EEB8EC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25C06E-4ED6-41E3-B5F8-1195FA19089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747E29A-766E-4389-A53A-40BFB3262787}"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3D65E5C-CC50-4924-B16B-1BC7DC639F6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BE064D2-78E2-4D7B-B1C4-B86253F6FC3F}"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EC38F7A-34FF-4904-B0FB-A62D7E2B10A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6D37192-72F0-4A10-A017-16A949CAD43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8696033-52E9-4655-AEA3-A46EE6548964}"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9B61555-AD6A-4C8D-BFEF-49934592B64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0A5447-209E-4E70-9DB9-6AFBE56A70C4}"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48C1475-4841-4E06-A000-59DBEAA4BC17}"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57D2FB-F2C5-41DB-8250-0ED838C9DAF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D2EEE14-C443-4D21-A5E6-4719351ED880}"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59BD2B-C3FD-4EEA-860D-B63A50D3B460}"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16120FC-68C9-4D09-A35C-8C4D390FA4F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EB1616-30B6-48D8-A7DB-1C4B1C949AA2}"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1302B97-73B3-4CAC-80A1-36F076AC4BA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7667646-3658-4354-BD6D-46ED4A0AE6A9}"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2175E04-1DDA-4DC0-A367-D57E746C5E35}"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A634B5C-4F5B-4E8E-981B-0A6A331A6636}"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DA19114-FD5D-4A17-9501-EF7B0682DB07}"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5030226-6F44-4A03-A75C-F38406E85DB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6BCC23-7032-4724-8B18-0F66E19BBE4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6C79D3-9019-4D62-AB11-3A97CC885C9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08852D-C606-46F6-B0C0-03AA6924A3F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A579EB5-E852-4542-AE01-3B6D2C5C9007}"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86B2AE-A3BB-4E75-AF1E-8282995A5B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8F7027-F0AC-403A-A015-6C5626B64F1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7CCCDC-C9AC-4AE3-8B5F-07D3C9E7B7F6}"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EFB92E7-471B-46B0-AE6D-5F9266C5FBAF}"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9E41DF3-A3AC-4115-9242-AAFD4EAD9018}"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0D4C32E-9611-4322-97E7-54D3CF028A8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4083FA5-739B-404A-B27C-602896DCDD46}"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E6E51EE-784F-43A8-BD79-3CBA459DE868}"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99381B-7040-4FDF-BF41-59AC0B40E29A}"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46692C-68AC-4BD7-992B-79540A49760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2187610-0C5D-4F32-88B9-6B4092F5E1F7}"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71E14E-5A44-4C64-9533-C0A232E952B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83C244-7BE0-4552-9653-6B4BE27F974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BDC9A9-D232-4ED6-BBC8-EB6A5957F08F}"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15A85D-07C6-4613-95CB-516652F1C98F}"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FDBC18-A296-4538-9656-923B8754CA5C}"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DCBB63-5F3A-43B2-815F-DD7F8C35081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C569B7D-F2E1-46B1-8FE2-D92348B55B33}"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DF343D9D-58B7-4838-93BB-676B4CE0127D}"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2AC76A-87D2-4B8A-9EEA-41913494FA83}"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8E84B20-2484-482A-BDD1-17A6F2A74685}"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076B16F-E9C8-4ACB-8B01-9AB3F1255F3F}"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027B13-0551-426D-8BA4-205BEF5F791C}"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300F1DB-5F65-402E-8782-398D4ED34DA5}"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904A91-BB8C-4864-A289-6E2DF20785C6}"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E856A4-D792-4469-B8DD-2F285875270B}"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B4F829-76FC-4B68-962F-2CB18502DE7F}"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ABCC9CB-B678-4E6D-993C-5A6852FD426E}"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485304-37ED-4678-848E-1F836A208026}"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B407928-2165-43BA-B6BD-D8DF006C54C5}"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C3E5C55-4732-4E5F-A65A-CB70DFE5DFCC}"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B63701-7EAB-47BC-A721-ED79338BB69E}"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