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B160004-4265-48DC-A98B-A729C5AF9E00}"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9057BFF-7473-47A8-90E1-30527984F4F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4BB3C27-C443-4623-83F3-BB298B111CF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1AF976-4263-4A74-AB45-DE36F8F3794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9B947CA-85E5-4B00-9461-CCB1A6EB1CC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72D34EE-4C38-42B9-AA3A-257BDFCD28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3AAF62E2-84E1-4405-9A0B-F63622DC379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8519299-4DB0-446E-82B9-BA886820F5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476F54-77DA-45B3-A7DF-6AD295788C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F252C60-5E10-4894-8DED-49DC0BBB3E6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93B37F3-FCCD-44FF-A809-496DF58EBEE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27DFB0A-9425-4F02-8D05-544B8B4ED67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A96D8CE-383F-4E2C-8E98-9E376B9270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FCDBE2-CD14-436F-896C-56B2493720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FA6F6C4-36E3-4152-8E1E-3B78FB5F70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67E30CD-AE7A-45D3-A047-5A88D3BB8A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C122CC5-6A79-41DE-99A6-DF1DFDFDE7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3BF4B7F-5FE5-4442-BD88-19844125B2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F4BAECC-F5ED-4D5F-B2AE-7578B3D7241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F6B2F6-BFBE-4200-BB12-AD71EBC1CC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C4539D-9AA3-412A-94E6-B2FFE34BD99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1FACD5A-B8B4-4C45-975E-F78E220DD7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C7188CD-4560-4634-92C5-238691399F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01DC8D-D852-45D5-B65C-4F93AE8BC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9E1636-CF17-4564-8373-A827DD1DAA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6EA29D1-DCAA-4D36-99CC-4DDE73DDA0B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7CD60-0AB8-4B4C-A093-3F48D7061C0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AC3ED-6F70-4256-B238-B89E6B4F48D7}"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5F128-A83F-4939-A4E5-A2E8A1BFFC20}"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F481CB-B39E-4C41-AABC-45181AFF4672}"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C76CF5-F50B-4E5F-9626-B559858EC8E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1B7339-532D-4422-9A95-79F7BED5C5F6}"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11E23BA-9EBB-446C-8C08-F48F380730F2}"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3F7CD09-DAB7-4A85-9410-409519B4518B}"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7EEBAA-2DA2-4329-B51C-A3D8E1AA9C92}"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978B572-A6BF-4FCB-8AD8-736AC97DA505}"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57A25D-6ADE-42FB-8034-6E2A578E453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53839A-0973-477C-BA26-8DF6C662DFF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692EDA-5E83-4A24-91AE-16FD5F19F25A}"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CEBB86D-DA9F-4F09-BA9D-F634BD51AED3}"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B4930B6-9B8F-4065-B0CE-BD825A26DB8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577449-B2D6-4110-A2AE-5796F06BDBA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005ED61-559E-4FE4-9342-41DABB09F35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C94BEF6-2B56-4D5D-812D-B23D2D2253C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3BF6D9-A038-44F5-9A2A-D6205B4DB99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46AC28-4338-46A6-A3B0-B73FC6B41C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E5A8FDDD-54CC-4108-A2FB-551A030AB586}"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D0A9B9-4476-4FFB-A04D-4C240E0A9AF2}"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15C39C-383D-4DB0-814F-F32AC01C4F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00DBFC-8EDD-4CBE-926E-414F4E1525D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839388-AFDF-432E-959F-664AD2A78A86}"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635FB8-8CF0-40D4-B2A1-B0AE728979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44B9D4-44F8-419C-9067-C5EC35D611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656D97-BA93-4B49-A3D7-0F6A8F0853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EB7AA6-F26E-409E-9E0B-142D4BD7A153}"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61FC384-2395-4AC2-BB08-33660ECE5D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3BB8FE-0205-45BA-9EB6-6B31BDA773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E6EDEF-ED80-493A-9C4F-215534E3C2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F7F9BC-8C76-4B51-BE11-6F634833B21F}"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2FF5F9-D386-4FBE-8F8F-7229763AD0B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D85336-819F-4F51-8F11-8107B72458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E9242B-86F0-4633-BC68-600724BD83FD}"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1824B98-B96E-4E76-AC49-4321E2ECD2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376009B-2D2D-435A-986A-B1950472AB4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46EF550-EF0A-4723-9FBC-B467BE026A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1A2DF0-8245-43E6-8AAD-331ECCD67A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0F0BC-3620-43AF-AD43-31230806A94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F602A68-FBA8-44F1-8306-FA0A8EF559F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B429C8F-3EEF-46A5-B6EB-CF3C38F7452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B4775-4B48-4C34-80E5-CC3336DC9F5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100EDF-C269-46A9-BAEC-79B2087EAAD2}"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3A89255-8CCF-47CF-9482-A42B6F2FECB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C20A5B-30E2-4C22-A5C5-5E4E7402B1EE}"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4DDD0E9-B6FE-4184-8238-26AFF590DA9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8607F2-1F21-4F04-8495-A543EE9C88A6}"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673ADA-1986-40DF-B912-9EEEFAB9017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B4CA19D-3AF2-493A-8E09-E57483FA616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16F7A3-6F6C-4612-8EE3-07B747128492}"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79BB95-DEC1-4994-9871-CCBAFF383C35}"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87FCB6-3181-4E81-8E19-49ED1B3EF3B3}"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3D264B-E488-472C-9637-9F1D347D0FE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278435-6BF2-4860-A426-7013DEBCB573}"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8D93DE-EF3E-4EC7-9811-1DC91788E8BD}"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D408D44-3501-4BF3-B8A7-D3D9170C1EA4}"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0D467D-07FB-4FF1-8857-95632636A88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01E6CEA-917F-45F4-8AF9-F1301CA64F5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CCF66D-1CBA-4890-B5E1-9369F148DF0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DB685C4-D531-4431-A1E6-8F898D486C98}"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1D7129-BCE0-4D05-9B75-4E77BC28AAC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9B28B7-5C47-45B8-93DA-03028DBEE26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F6DDCB1-BF5E-45EA-8B25-CED3181869C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E9ABDF-4DEB-4AE1-8FAF-2D4280C017E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F8598D-0988-4970-AE84-D09AC99DE59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86CF7A-6BDF-42BE-AA6E-4D9ABAE4899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E376B3-DDCF-4AE4-86AA-7A9DE16B54D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6A7C18-4EF9-4E15-A42A-FB4053FFE2AE}"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8F799A-C768-43AB-9E48-76F9C375D3D6}"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FD3EA6-5EDA-40D7-9967-1BC3400B9A4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DDD05B-500D-4164-A4F8-52115F86748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C79A2C-7D1D-444F-9215-7AE3D03771B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29EFD60-D19E-4D9E-91C2-E48A0C22E9F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AC8E0D-BB26-46EF-8F41-FB9E622FBEB2}"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4DD4FD-7602-4E81-91E7-D0031D93DAE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6491A57-D110-4D34-8B43-237EF714FC83}"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11416FA-3A44-4C04-86D0-A04D46693799}"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BF069BF-8977-4F72-A5BB-602C12CBC513}"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2DD3CA-87CD-4B7E-A27E-AD8819E54AAA}"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94F11F-ADF6-4B28-8B7C-AE35F8B10CD2}"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F5FA9D-C532-49F7-B0D6-3E0BD228A0FF}"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38E5A6-BC26-4EC5-9326-FBC2DD1BEBC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AAEBD42-296F-4D6C-97DE-8EA647DB4C7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8BFB68C-DDAD-4930-B1D9-EC6D16C5C14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F95A56-16F6-47F8-8778-736D0E85F81C}"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B54C631-0033-464E-A5D4-6D43395B6D0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5D74036-BDB4-49D3-80A4-848B8FB9537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467669F-6BA4-4321-BEEF-BD6666313DF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5FE5AF-7C2C-4162-8137-EBCB35DC0EA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B4565E-0F1E-4F9F-B606-E3EDFDA9406E}"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065BF9-311A-4E85-BB98-C5AE224D537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74820FA-31B4-48F9-8377-D1EE62BF6AF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944AE8-4049-4C31-8962-D216F1BEA336}"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2311146-5F18-42DF-884F-E3063A65C960}"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96EE84D1-DDE6-4BDD-AEF1-0A0AC69A5BA6}"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FF72C-7ACC-4940-8B80-85519448065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5DD709-B7F0-4208-8B1B-A8F78C658E1F}"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DD6D8DD-C010-478B-A255-BA1C4532267C}"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43137ED-4678-4FCC-AF8D-7C1AEC12D193}"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ABE170-7615-46B6-BB99-CCBF3AFD3C57}"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20CC896-E4C9-4622-9569-EFACAC9E026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E71335-67A6-4A0D-8343-863A94F2C499}"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26A077-5C6C-4FBF-AF4B-1C24187CF94B}"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64D2195-B513-488A-AD69-C1F343E3240E}"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4BEEB2F-114F-4A75-B668-F340F3407B74}"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6BCF2D-4000-48BA-853A-E65266A3C46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807590C2-BB7E-479A-92EB-5E0B8534D3EA}"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51A0FC-B0D3-4D69-9494-52BF748EF1B5}"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B082C57-4036-433E-9A49-D0B7E1127024}"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3C679C-BC5D-40FE-858F-51E19202E9C1}"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4BA317-9570-4BFE-A96D-A247572A4375}"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470DFA9-F64C-4CCA-BA7B-F32FAD80BB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