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6D9DF9-7144-4505-A36D-F6927A5E09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5E1C40-4E62-411B-BF65-3C8C4AD1F8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C14FDE-EA78-4DC0-879E-55FFEC2431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F3D42D-69A0-4836-86B9-8FD88169A8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7F494F8-6084-4EB2-919D-8B318891801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74CA68-3A8B-488A-9772-749D7E13AF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2623C0-1552-4894-AF9E-ABA4AE36DC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E1AC4F-B342-4C5E-B773-C2D5272A1E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2C1E5E-8262-46F3-A5CC-E0D6431830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E51189-093F-4490-9947-497BE73657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4EA449-5B64-4B31-8A24-AD9B40F3FD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EAE8DA-64D8-4607-A06D-3F68DF4FB1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FCAF36-46A4-4E31-BD12-8D5A1F29FA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74AE9E-DA92-4A62-9BFE-9509262FB2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83D024-54EF-4ED0-BC9D-896C4B466A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BEAC3D0-5265-48F4-95C4-5DEED111617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EA368E0-3E19-4FC2-A3AC-8E04DF8D34F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9BC7EC-17DF-4652-84D1-452D7ACEE3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C363DB-3524-4B4A-A942-066D3EF47B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1F3ADA-0F2F-42DF-810C-3AD1593954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2F1E5D-1433-4A1A-A923-E56876810C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E721EC-C2AB-455D-A665-3D871C4E48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1CDF15-E4A6-4816-B7A9-80DEFE9C26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998E7A-6626-4E44-B890-65E14C11F7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A7AC9A-BAAD-4A0D-B7A8-E141A2F115F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344F7F-6171-4F2A-8412-CC02212942F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FA98AD4-86F9-4A7C-8825-178BBF1EEA0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C32A468-B1E2-4651-BBF9-90A7798AD7BE}"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8A9BE0-C92A-4714-BFDC-383D3621E1FA}"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890BC9-6C91-40C1-A236-6E397F0B2AFA}"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9F5CBA-612D-4473-9F52-65C9B851820E}"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60D03C-3B02-4245-B14F-30AEC99A606A}"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7A8C97-25DC-4101-9E07-8B7A4CEA674C}"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93C966-537E-4148-B5D5-28F06FF1EC80}"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8C2FF2-2CD2-489C-82F9-57098B6E292B}"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FCECF7-8A5D-49A2-9094-8214299F2D41}"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9F2426-2BF6-422F-84C5-B4A559B894C5}"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5026D5-4EF9-46A8-BEB7-EE096CFDCD65}"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DD43AD-6C6F-4434-AE42-5FF2727127AC}"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03290C-106F-44B9-956C-5078C50D9B5B}"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0BED1D-8DA4-4C72-9FC9-04BC017941A0}"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E553E4-BDE4-4ECB-A86C-9DD53ECD1676}"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730D9E-C0D6-4B21-9099-7B5AEA74C11D}"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32FFE2-59DF-4FC1-9ED8-B5D81C7DF476}"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6B2FBB-4A39-46CA-9733-2E16B9B6F567}"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915477-FFC3-44A1-9B3F-663023C73EE8}"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AD0D86-DE11-4549-9B8D-3D35EFB514CB}"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E80228-06F3-4D77-BA6C-93CA8EF7103A}"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6ED220-E35C-4105-8439-759573BC6CA0}"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06FB9E-D651-4274-B062-2DC57DDB2CAD}"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3F0880-61DF-4510-A718-2AD4010192CA}"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DEEAB2-2407-4119-8511-3F0CE9CED6BC}"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1FD8E9-8621-4687-9B26-EF6434A9C654}"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1D2AAF4-EAF2-4F95-AC5A-B39712C9949A}"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2DDE83-65A9-4520-A8D0-12BB4B9CAC0F}"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A480EB-AE8E-4EAE-8865-1533BF474792}"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E59983-9217-467F-8931-0384F467D60A}"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828980-6E6B-4F7A-8F62-00C720695EC2}"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075B14-61DC-4181-BB9E-D750AFAB498F}"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012EB3-D527-41D2-B96D-02AE3848D2B7}"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42D794-CD48-49F8-8982-2914B8CEAFF9}"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0F5BD6-26E5-4DEC-B48A-18FA60D2A167}"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3C095B-A4D1-4DF0-BBF3-04CA6D87F3F7}"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2997EC-9AFD-420E-8520-3B79FCEAB4BA}"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4C5B87-D3FC-4949-A354-CCE1C92393C1}"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EC85A5-C009-427E-8107-EF0A3DE57CBC}"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4BA76E-9745-4748-A520-47635D1B36D5}"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3A5925-7524-4085-A901-D5F0E91B190A}"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63A67D-CE68-4EF1-8744-EF211E5C982D}"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1446FB-60D9-4A8E-9A18-976E1FA53CB3}"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9D5C60-35C2-4853-BFFB-95AA9386C5D0}"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12BEAE-7B1A-473B-9D47-0EF154CED693}"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8AAF2F-E6B8-449E-827D-0815831AD191}"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811E85-BE5B-4ACD-9DDC-17539BB48131}"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98D5E63-DE5C-4CF3-812C-5B1E3C2DA7D9}"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46E696-A9CE-4BE1-A12D-38985D61D657}"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82B1A7-CE6E-4A23-BB9A-E3C09974BAF4}"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5918899-4310-4CB9-9657-1382EB27CF00}"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E37854-2096-4CF8-A564-5E020C933C32}"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158BB3-482E-4750-B2C3-E1F99B418E85}"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D7F0BA-2E5F-49E0-9F0A-69EDACA244D5}"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E7D416-43B4-4432-99E2-56D324A22B91}"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937FAF-ADFB-4FE3-99B3-AC0A2434C6E7}"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0F57F4-751B-4B94-9FF9-9D0EB1CD67F0}"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C4A832-E57E-4637-8807-83C3FFEC8F78}"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F686B79-DD9A-4CE2-B324-2093C8C917B6}"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9FAB9F-E661-4AC6-8840-043ABF32AB8C}"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00A358-71EC-4F1D-8CB5-0C79CF23EC54}"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AF0064-B92E-4476-BDFB-4BC5CEE9BD97}"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80AFCB-D6D6-40EA-90F0-DDB70F676140}"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0DFC18-4816-4DE8-BC06-66F783285058}"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044F5EE-9E40-40F3-92DD-814CE5F193E8}"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4DA27F-352E-48CA-802A-AB668A06C6C8}"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CB1DCB-F9D2-441C-B4BF-F9C793EB2006}"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8EDEC6-5B8A-44D7-8AD0-7619EF00CFB8}"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7A82A4-BB19-49CE-AA6F-C056A343AAD3}"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F71A2E3-2D73-48C8-BDC7-98D77DD33FAD}"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D9FCCB-4255-4CC7-B4EE-7FEF480B4643}"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C9D8E1-F008-4735-8946-40C40893BAA3}"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D091AF-4CC5-4B85-8376-AAE875A20D75}"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60D666-24C7-4E1B-AB03-15C5DBB32305}"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B6D57F-E23A-49C3-A0E3-11F00FEFCF89}"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7F28F4-590A-45EF-8AAB-E489CDE2A1F2}"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1404CEB-A54C-4BCE-85CA-6FAE5EFACBB0}"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6B4C3E-8B49-47FB-818E-1B14989FB1CA}"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B3D0C4-2D61-4001-BDC4-8FB1E45D2F3D}"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E6891D-A53C-4B97-AE51-FA8D2F21AC47}"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50FDDE4-3D7C-4132-86C3-1C15599F3B41}"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AF1074-38EB-4393-9454-F124FCD167F6}"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131488B-789B-4427-B500-94311C46DACF}"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4505BC-8096-4565-ABA5-22F4F41BF6DD}"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AE69E5-C2D8-4032-B821-C4ADCA668BE3}"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3B4196-44E8-4B5E-842B-FC7861E8CAAF}"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B45677-D88B-49AF-9B09-A0F8E827E44D}"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CE073B-23CD-4541-9A14-CCC0BABA3CC5}"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8A16C7-9820-4246-B636-CEB1C5230DC4}"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CF00A6-2168-4261-879F-F5B679BC113E}"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888885-8293-467E-82F2-07A17C2B8412}"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FBBEBA-BBE6-4987-B274-A232A10360E2}"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CD3E17-C8B7-442B-945C-330C671C3471}"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E13F90-3A3B-4B43-AA0F-23AA1DBE5641}"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20B01A-A7E3-4C00-8CEA-E1D6A5BE38F3}"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398CD7-3BED-40FB-99A8-1C58F6018B2E}"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6C855E-38F1-4A85-95ED-88A9A6975230}"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C01025-7AB4-4E1A-BA26-FF8C8E54E442}"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7BE2A47-0A37-4155-9562-E4CF063D9568}"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330C75-F082-4349-BE3A-49BA23CBFA1E}"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0FAC57-7215-458B-BD5C-E4588B1EFFE4}"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53263F-D014-4FC8-AE65-A30242F4587A}"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1D77EB-6929-410F-8B61-2E0B03FD341F}"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584D0C-E557-48D0-9EFD-A331D67AC24D}"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68D025-EF3A-4088-9D76-8A87E4804E0A}"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42962A-72DC-4F1D-9C90-A1C3534C472E}"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AACE3F-73AA-49B9-BBBA-7407CA0797DF}"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3B4B98-2120-452C-815E-89A241037D46}"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3D3842-1E3F-421F-9ADB-ED0A3B3BC7DB}"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693D97-9DDD-4D08-B6C4-FF4FF81D841C}"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7080DF-BBC3-4D5C-8432-DAF3003A8F2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E29024-B4EE-4CE6-9350-E8C5E97953D9}"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776911-39AA-41B7-98FB-A03567848080}"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0476CF-565E-411F-AEAE-D3B9C8FF3229}"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2975A4-320F-4DF1-AF4E-BDA60E8549AB}"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84A6D4-39B9-49A0-A101-CBAFC940F3F2}"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1139CD-B2B5-4F8B-AC3C-58B6DA1D7FA1}"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F417AD-C031-4DD6-8F14-4A331EB44138}"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A3A9E6-CDED-4F4B-A246-AD55B6E7114E}"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A0475F-107C-4714-8115-FD91D8DCC375}"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90BB75-9B23-4832-B300-2FC5CEDBE1E5}"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F741F7-CB94-4B92-9A4C-2637EAC174F8}"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0A22B1-178D-4518-93D2-9BCCC494CA23}"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3692F9-A2DD-4A5E-BA55-D142FFBC9FB0}"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AED342-6FE2-4A6F-B931-2B2501730F53}"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98CAFA-69F0-4316-B7DA-67C8A258E7DF}"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0C54AA9-5CF3-4EB2-AC76-1BC8536006CF}"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FFB972-2D24-4AD6-956C-BB436506666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D94709-9A66-4D88-A93C-B2EF1C5B763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253274-1745-4F9B-B149-DC690C5DA76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4BEAFC-7318-42AE-847A-31B61EA22B0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FD4654-F18C-4E6E-B772-991E38FD89E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4B286B-D509-4331-9D63-1E0D4F18A3E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9A45551-42B9-4915-B7C3-C99BF65DFEC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7D7EE3-BAD4-4E43-881F-F72BAC8DD50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1303FD-B96C-4097-9A78-C96C85DA9D0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C30CE9-7D28-40CB-A97A-285CBF54150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3FD7F1-6D16-4BD7-BA9D-36CC781C74D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B9E471-C11C-4055-86CE-B32B86A123A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AD7C8B-9ED5-4385-BCC2-3F97403BF6F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BBC5CF-DF9F-49C6-8754-F6F6695F18B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BB5646-8F43-40A1-AA97-B8361787925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AF508D-8691-451A-A6F3-B656EDCB3F7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311959-AFD8-4EAD-A3E3-582DB02533A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A985BA-A0AD-4EF2-AB89-F42DB423C80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621E51-F338-42EC-95D5-8EB8B5309CA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33F98F-AC55-4944-B344-8AF88B0B715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AD40A9-2DE1-4265-96B9-83EF2EF9EB3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E845F8-B057-4D94-B8D6-B3260DEFE83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6C5D49-7D6D-4DD9-9B82-A64C60F7E90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FED867-924F-46E7-B25C-83884816888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BBBC77-B219-4B1C-987A-A6CDACB3895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88ABE3-64F3-4D0C-87FF-72F04AC67E8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4D2C12-A819-445A-A45B-590BDFEF186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92B0FE-0B19-4D96-BF38-1A883DD3C7F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60B00A-6891-4AD8-9799-D442AA3920B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15EF00-337F-4909-9D62-78690BB0E21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D42246-609C-462C-9977-4C6769B1051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97915B-2EC7-4257-9B4B-F88E7C8E723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B82AA8-5990-4D07-8A22-F8D13AEC1BA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A0315B-F514-42E9-A362-E6A4A2A354F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D85087-766B-4084-B998-15C4313DD33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5E796F-14EB-4DD7-A069-380FCC92C3F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4E5626-1512-4203-95CC-4E4AB1B0237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0E535E-1782-4ECD-8ACE-5B0383C35C7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E25757-2EF9-4FFA-BEC7-D6250E44C7B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DCCA84-E781-448C-BD1B-51E1710B03DF}"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32D9E8-C48E-4411-857B-996C4D8A609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9A0B2B-AAF5-402C-836D-89BDBE39214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341ED9-1B34-490F-AAC0-2435740E870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19C6AF-AF96-477A-B998-1CF981DB8A9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20BF98-D97C-410F-B552-F620B8D61928}"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F71E0F-F56D-4F8C-A512-3197481E2637}"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B2AACF-97C2-4D6B-AE70-D112B75D5C6B}"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CE527D9-F2EC-44F3-853E-26856885882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2F92FF-7D17-4130-923F-A11CAC457016}"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60F060-B66F-43C3-9011-77C6320F1410}"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4DE58E-82AD-4215-926D-70EA62EF8CA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D5AA6D-F597-4BA4-B83A-46F155AB79B3}"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08952E-77AC-4AD8-9D42-E7E2783AF673}"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A92F22-FC84-47EF-8D83-B80624F0AA4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AA72FC-E1D6-44CC-960F-6842F8C78E5B}"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57C4AD-D374-4E9F-9042-2331705C829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5042DC7-7114-4A6B-820D-1748FDEB064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272C7D-0311-4FE5-8CA6-6ACACCDC34E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E2F03C-0B29-45B0-B487-7D1F65B20EEA}"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E98959-E26F-41AD-86EB-C8C58848D93B}"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2DF425-FC2C-4C9A-94E4-F6D978F7A2F3}"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031693-CDD8-41F2-9D4E-6CD54B17C867}"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E05AEE-B0EE-4251-B037-A0B1FA100AAE}"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244D37-EA3C-4E1F-8F45-EC1239333D03}"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EA9C4B-E923-4634-B733-4BD1D4F22B8D}"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926F01-A549-4BCC-A142-7FD47143746F}"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35D5CA-62B2-4A07-8D0C-A3A56191A8A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558F65-7C89-4748-B8A3-2984990F8C25}"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6C1872-6225-4528-BDF0-3B66D5B4A94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F20749-439C-4DF6-81B1-3CDA18E056C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397563-490E-47B2-941C-CF76EDAF980E}"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54F6013-0729-48CB-87AC-0BBE15297960}"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0B704F-38E1-4D08-A07F-311843A6D96D}"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28859D-75D9-4A8F-9675-5E5648611DF6}"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67FE39-737E-443B-9502-10B81A94E3F0}"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5E695A-67BB-45A8-BFB5-1CB25027E54B}"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73CF69-3E7A-4EEC-8412-6BF6396EF06E}"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71D9E6-B470-4157-A4A1-3F407CB2520B}"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7073A2-2507-455E-B725-49BD0C95B4FB}"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8A217D-8EB6-4AB7-9A9D-735E676C187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94ABED-7C55-45FB-BA7C-8CF9A6B3F486}"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7281F5-582B-430B-AE1F-A2C509435307}"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60ED3E-9B3C-4F38-A044-85518712F810}"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449618-A70C-4B36-A3E3-CE6BAB4ABFA7}"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DE935A-0BC7-4261-A3AB-D64DB31498C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