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2308827"/>
        <c:axId val="13421035"/>
      </c:barChart>
      <c:catAx>
        <c:axId val="4230882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421035"/>
        <c:crosses val="autoZero"/>
        <c:auto val="1"/>
        <c:lblAlgn val="ctr"/>
        <c:lblOffset val="100"/>
        <c:noMultiLvlLbl val="0"/>
      </c:catAx>
      <c:valAx>
        <c:axId val="1342103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30882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85476-60C4-44EE-ADCF-B4E3EFDEB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76BE7-6A44-41BF-B9B9-53F840948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D7269-2D17-40F8-8255-2A3BF6F30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16817-D351-4852-A35D-6C8F637F8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C5131-D831-4BF3-B1C7-C3E38D99D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787A2-146B-4CD9-B502-FBF4CF737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3505C-49D9-4814-AF7C-7BDEE8959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CF3B1-9D9D-4F9A-B32B-F9C0846B7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F3F5F-8378-4470-A7D2-D1D872150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B55C1-DEEE-41A9-B196-190D7F3C1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C4F96-8F50-4BB3-B05E-A2985318F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046AD-737D-48CD-8127-4E9FB6C88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609E9C-AFFE-4474-95D8-776FE5D7029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